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2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761AB4-7310-4686-8A7E-9E4806022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94B738-8D62-4024-B205-43A6EB5DCE6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6A590A-BBC6-41E9-B6BA-B5683FCA538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5AB12A-71F5-44DF-9C2B-0EE07083C0F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69847-7DCB-446D-892B-13D1A019CDD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0219FB-20CF-4CAA-80E9-605568F5C88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B0246A-BE4B-4C17-89C7-72090AD57E6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CE8E33-3907-473B-903F-52ED7877193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8F9D57-56FA-42C5-B061-A3686C7603E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612EAD-7336-45ED-9D5B-045DF83D73D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9593ED-61B0-4951-98A1-951E895288B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FA7583-AB6F-4905-9016-90886651CA1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B9DDDE-7F5C-40E1-B4B7-9A4BEEABFFB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F1B608-648C-4966-8C1D-77A12B97F01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23A918-B04C-4AD2-913C-CD80505F787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993206-9423-449E-AE80-46A56275DB6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347A19-51DF-471C-9EAE-492A6247F07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26B89E-0EB0-472E-984C-02E0175B504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3ADCAA-119F-46A6-8A4A-D988F6D767DC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A421BF-B6DE-44D9-BE51-1C446047A52A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9DBE6C-3DCF-498A-8985-644D13029290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A85189-D1CE-4D3A-B6A2-1A0F1FE3F96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86883F-0477-4135-B537-B4572976532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EBF1A5-8131-4E41-8AB2-B5DE86E08458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35DA21-1DBA-4EC6-AD81-FD9350A1FD7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7E3F8D-2F5F-46BF-A478-1B00F7ED22B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B05B76-D393-4E3B-A046-A626125D190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Slide 28 - maybe worth saying (verbally at le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what Tim Berners-L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loves to say - that the runaway success of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stemmed in large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from the fact that tags could be incomprehen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the browser an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even well-formed - the principle was "what you don'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understand j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ignore" - so early web users didn't get frust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from silly err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because of typos from millions of amateur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auth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C215F7-E136-45B7-894C-C9FBFE7C84A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DF7567-1ADB-4231-BE1A-AD097F521D0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5E2715-EE84-4CFD-A0DF-DC37CB9D2EC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C4227A-E9CC-415E-AA4C-FC4028DE4BD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180910-2626-42BE-B4EC-6CA1F6CF6AB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B70DE8-D1BF-4F25-9F7C-FB1A7F42510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A2A911-37B8-4B06-AABC-CB8A7DE0AA7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87BE34-98D5-43C8-86B6-C615C021384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E93892-B48C-4C67-AEC8-4DAC3045854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CC8F32-332E-4F37-8C4E-BA46AE085C4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D37280-1735-4E75-855C-36BD3841E6A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18EB8C-96A9-4DC5-BC2D-A3E442E51CA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C0F2F6-4401-4888-886F-B113E48BC19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71ACFC-27E4-4157-920D-8ECD9784D90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E39-F91C-441A-BB14-B6CE51A4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86D-DD23-427A-ACE9-84A563AA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83C-7F5A-47AA-B01A-EB7552DE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D46-C0F3-41F4-9E9B-A817F6CB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35B0-7C69-4585-B5C2-7D040C4C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8F36-6F62-44C9-B71D-31A6B16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5025-AE5B-47B5-8596-0FAF731A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B759-40AC-43F7-B839-CFADBB22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316D-8CE1-4DDA-8A50-C4B0288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410D-C064-4116-A4DE-67FD199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B959-103E-4760-A432-522A220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A77-DD8F-4DCC-A09D-9EC96F8F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CD97-8C45-4303-8C8F-0198065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F8B-2C52-4CBC-8132-F9DFA805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C385-9A70-4D94-8A79-6772737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F5DB-9A37-42B6-9892-A71DE45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ABAB-943A-4641-9C3A-90A36078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526-871E-4CAE-9458-10607F6C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93C-A453-49F5-99DD-3C1DC8B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2CD-4007-46AB-991D-7B5BFC2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831-D380-4A5C-8953-DB14EF7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726-E743-4B55-BD1D-39D4AA4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950-4B06-4C3C-A706-7C2E44F0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EB4-921A-4024-BBD4-7E3AAD2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A05-5017-46DB-92C4-3CBEF735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203-033D-4216-B86D-5280C4A727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Making one-side error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3780000" y="6308640"/>
            <a:ext cx="536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71680" y="1928880"/>
            <a:ext cx="7786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0" name="Picture 3" descr="C:\Users\ferragin\Desktop\Picture3.png"/>
          <p:cNvPicPr/>
          <p:nvPr/>
        </p:nvPicPr>
        <p:blipFill>
          <a:blip r:embed="rId2"/>
          <a:stretch/>
        </p:blipFill>
        <p:spPr>
          <a:xfrm>
            <a:off x="4035600" y="3108240"/>
            <a:ext cx="1893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1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2 and 6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ilarity between binary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cument is 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67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’s wrong in doc-similarity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’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“weight”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7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88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23554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6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07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111480" y="5800680"/>
            <a:ext cx="2262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67556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keep track of the URLs visited by a crawler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RLs ar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lo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eck should b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very 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spcAft>
                <a:spcPts val="876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 care abou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small error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≈ page not crawl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072120" y="5429160"/>
            <a:ext cx="2857680" cy="13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ver crawled UR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3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217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“close together”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19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4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5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1778040" y="357336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4300560" y="1844280"/>
            <a:ext cx="470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3321000" y="5231160"/>
            <a:ext cx="5715000" cy="50940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ine similarity among 3 do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05320" y="1700280"/>
          <a:ext cx="5410080" cy="24368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ow similar a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nove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Sa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ns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nsibi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Pa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id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ejudi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W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uther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eigh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3992040" y="407664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Term frequencies (count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200240" y="6172200"/>
            <a:ext cx="70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7e69"/>
                </a:solidFill>
                <a:latin typeface="Lucida Sans"/>
              </a:rPr>
              <a:t>Note: To simplify this example, we don’t do idf weighting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3094200" y="5084640"/>
                <a:ext cx="594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3 documents example contd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7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Log frequency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" y="2438280"/>
          <a:ext cx="4191120" cy="1857600"/>
        </p:xfrm>
        <a:graphic>
          <a:graphicData uri="http://schemas.openxmlformats.org/drawingml/2006/table">
            <a:tbl>
              <a:tblPr/>
              <a:tblGrid>
                <a:gridCol w="1185840"/>
                <a:gridCol w="909720"/>
                <a:gridCol w="1047600"/>
                <a:gridCol w="104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fter length norma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45080" y="2438280"/>
          <a:ext cx="4268880" cy="1857600"/>
        </p:xfrm>
        <a:graphic>
          <a:graphicData uri="http://schemas.openxmlformats.org/drawingml/2006/table">
            <a:tbl>
              <a:tblPr/>
              <a:tblGrid>
                <a:gridCol w="1236600"/>
                <a:gridCol w="1011240"/>
                <a:gridCol w="1009800"/>
                <a:gridCol w="1011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260" name="TextBox 14"/>
          <p:cNvSpPr/>
          <p:nvPr/>
        </p:nvSpPr>
        <p:spPr>
          <a:xfrm>
            <a:off x="76320" y="4626000"/>
            <a:ext cx="92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PaP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0.789 × 0.832 + 0.515 × 0.555 + 0.335 × 0.0 + 0.0 × 0.0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SaS,W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7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cos(PaP,WH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≈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0.6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every term, we store the IDF in memory, in terms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which is actually the length of its posting list (so anyway needed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Invented before “spamming”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the computation of the c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es not necessarily contai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ut has many docs from among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tur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earching with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errors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25756" r="0" b="0"/>
          <a:stretch/>
        </p:blipFill>
        <p:spPr>
          <a:xfrm>
            <a:off x="0" y="1773360"/>
            <a:ext cx="9144000" cy="5110200"/>
          </a:xfrm>
          <a:prstGeom prst="rect">
            <a:avLst/>
          </a:prstGeom>
          <a:ln w="0">
            <a:noFill/>
          </a:ln>
        </p:spPr>
      </p:pic>
      <p:sp>
        <p:nvSpPr>
          <p:cNvPr id="101" name="Rettangolo 4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ossible Approa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term. Hence this means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ancy hits: sophisticated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1: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a query such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Only accumulate scores from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atcher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don’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enefi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Postings of low-idf terms have many doc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these (many) docs get eliminated from set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of contend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2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337400" y="6359400"/>
            <a:ext cx="706140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84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3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ay, at least 3 out of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mposes a “soft conjunction”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3 of 4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07600" y="2733840"/>
            <a:ext cx="92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45400" y="3267000"/>
            <a:ext cx="95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608040" y="3800520"/>
            <a:ext cx="129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4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295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00" name="Group 51"/>
          <p:cNvGrpSpPr/>
          <p:nvPr/>
        </p:nvGrpSpPr>
        <p:grpSpPr>
          <a:xfrm>
            <a:off x="3276720" y="3267000"/>
            <a:ext cx="4917960" cy="398880"/>
            <a:chOff x="3276720" y="3267000"/>
            <a:chExt cx="4917960" cy="398880"/>
          </a:xfrm>
        </p:grpSpPr>
        <p:grpSp>
          <p:nvGrpSpPr>
            <p:cNvPr id="301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302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07" name="Text Box 32"/>
            <p:cNvSpPr/>
            <p:nvPr/>
          </p:nvSpPr>
          <p:spPr>
            <a:xfrm>
              <a:off x="34264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Text Box 33"/>
            <p:cNvSpPr/>
            <p:nvPr/>
          </p:nvSpPr>
          <p:spPr>
            <a:xfrm>
              <a:off x="41122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Text Box 34"/>
            <p:cNvSpPr/>
            <p:nvPr/>
          </p:nvSpPr>
          <p:spPr>
            <a:xfrm>
              <a:off x="4688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Text Box 35"/>
            <p:cNvSpPr/>
            <p:nvPr/>
          </p:nvSpPr>
          <p:spPr>
            <a:xfrm>
              <a:off x="527112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Text Box 36"/>
            <p:cNvSpPr/>
            <p:nvPr/>
          </p:nvSpPr>
          <p:spPr>
            <a:xfrm>
              <a:off x="5831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Text Box 37"/>
            <p:cNvSpPr/>
            <p:nvPr/>
          </p:nvSpPr>
          <p:spPr>
            <a:xfrm>
              <a:off x="64530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38"/>
            <p:cNvSpPr/>
            <p:nvPr/>
          </p:nvSpPr>
          <p:spPr>
            <a:xfrm>
              <a:off x="71118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Text Box 39"/>
            <p:cNvSpPr/>
            <p:nvPr/>
          </p:nvSpPr>
          <p:spPr>
            <a:xfrm>
              <a:off x="772128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5" name="Group 52"/>
          <p:cNvGrpSpPr/>
          <p:nvPr/>
        </p:nvGrpSpPr>
        <p:grpSpPr>
          <a:xfrm>
            <a:off x="3276720" y="2733840"/>
            <a:ext cx="4876560" cy="457200"/>
            <a:chOff x="3276720" y="2733840"/>
            <a:chExt cx="4876560" cy="457200"/>
          </a:xfrm>
        </p:grpSpPr>
        <p:grpSp>
          <p:nvGrpSpPr>
            <p:cNvPr id="316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317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2" name="Text Box 40"/>
            <p:cNvSpPr/>
            <p:nvPr/>
          </p:nvSpPr>
          <p:spPr>
            <a:xfrm>
              <a:off x="344232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40028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46616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20668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584352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645300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6895080" y="2733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0" name="Text Box 48"/>
          <p:cNvSpPr/>
          <p:nvPr/>
        </p:nvSpPr>
        <p:spPr>
          <a:xfrm>
            <a:off x="330192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50"/>
          <p:cNvSpPr/>
          <p:nvPr/>
        </p:nvSpPr>
        <p:spPr>
          <a:xfrm>
            <a:off x="392076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552960" y="2133720"/>
            <a:ext cx="96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nton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5" name="Group 52"/>
          <p:cNvGrpSpPr/>
          <p:nvPr/>
        </p:nvGrpSpPr>
        <p:grpSpPr>
          <a:xfrm>
            <a:off x="3276720" y="2133720"/>
            <a:ext cx="4876560" cy="456840"/>
            <a:chOff x="3276720" y="2133720"/>
            <a:chExt cx="4876560" cy="456840"/>
          </a:xfrm>
        </p:grpSpPr>
        <p:grpSp>
          <p:nvGrpSpPr>
            <p:cNvPr id="336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337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8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9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0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1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42" name="Text Box 40"/>
            <p:cNvSpPr/>
            <p:nvPr/>
          </p:nvSpPr>
          <p:spPr>
            <a:xfrm>
              <a:off x="345528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Text Box 41"/>
            <p:cNvSpPr/>
            <p:nvPr/>
          </p:nvSpPr>
          <p:spPr>
            <a:xfrm>
              <a:off x="40028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Text Box 42"/>
            <p:cNvSpPr/>
            <p:nvPr/>
          </p:nvSpPr>
          <p:spPr>
            <a:xfrm>
              <a:off x="46616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Text Box 43"/>
            <p:cNvSpPr/>
            <p:nvPr/>
          </p:nvSpPr>
          <p:spPr>
            <a:xfrm>
              <a:off x="520668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44"/>
            <p:cNvSpPr/>
            <p:nvPr/>
          </p:nvSpPr>
          <p:spPr>
            <a:xfrm>
              <a:off x="58435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Text Box 45"/>
            <p:cNvSpPr/>
            <p:nvPr/>
          </p:nvSpPr>
          <p:spPr>
            <a:xfrm>
              <a:off x="64530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Text Box 46"/>
            <p:cNvSpPr/>
            <p:nvPr/>
          </p:nvSpPr>
          <p:spPr>
            <a:xfrm>
              <a:off x="6895080" y="2133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0" name="Text Box 50"/>
          <p:cNvSpPr/>
          <p:nvPr/>
        </p:nvSpPr>
        <p:spPr>
          <a:xfrm>
            <a:off x="4582080" y="3809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1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352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355" name="Group 90" descr=""/>
          <p:cNvPicPr/>
          <p:nvPr/>
        </p:nvPicPr>
        <p:blipFill>
          <a:blip r:embed="rId1"/>
          <a:stretch/>
        </p:blipFill>
        <p:spPr>
          <a:xfrm>
            <a:off x="3876840" y="220032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356" name="Group 91" descr=""/>
          <p:cNvPicPr/>
          <p:nvPr/>
        </p:nvPicPr>
        <p:blipFill>
          <a:blip r:embed="rId2"/>
          <a:stretch/>
        </p:blipFill>
        <p:spPr>
          <a:xfrm>
            <a:off x="4486320" y="2200320"/>
            <a:ext cx="1854000" cy="2006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lex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ider a simple total score combining cosine relevance and author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net-scor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) =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PR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osin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n use some other linear combination than an equal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Now we seek the top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docs by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Lucida Sans"/>
                <a:ea typeface="ＭＳ Ｐゴシック"/>
              </a:rPr>
              <a:t>net sco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 (i.e. incr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4" name="AutoShape 5"/>
          <p:cNvCxnSpPr>
            <a:stCxn id="393" idx="1"/>
            <a:endCxn id="393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5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8" name="AutoShape 45"/>
          <p:cNvCxnSpPr>
            <a:stCxn id="397" idx="5"/>
            <a:endCxn id="377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AutoShape 46"/>
          <p:cNvCxnSpPr>
            <a:stCxn id="397" idx="6"/>
            <a:endCxn id="378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AutoShape 48"/>
          <p:cNvCxnSpPr>
            <a:stCxn id="397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AutoShape 50"/>
          <p:cNvCxnSpPr>
            <a:stCxn id="397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AutoShape 51"/>
          <p:cNvCxnSpPr>
            <a:stCxn id="397" idx="1"/>
            <a:endCxn id="371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AutoShape 52"/>
          <p:cNvCxnSpPr>
            <a:stCxn id="397" idx="1"/>
            <a:endCxn id="372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4" name="AutoShape 53"/>
          <p:cNvCxnSpPr>
            <a:stCxn id="390" idx="0"/>
            <a:endCxn id="397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405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05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Rounded Rectangle 3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0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at relevance feedback is the “best use” of the user’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“manual”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’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assi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3" name="Content Placeholder 3" descr="queryexp.gif"/>
          <p:cNvPicPr/>
          <p:nvPr/>
        </p:nvPicPr>
        <p:blipFill>
          <a:blip r:embed="rId1"/>
          <a:stretch/>
        </p:blipFill>
        <p:spPr>
          <a:xfrm>
            <a:off x="125280" y="1600200"/>
            <a:ext cx="8866440" cy="2514600"/>
          </a:xfrm>
          <a:prstGeom prst="rect">
            <a:avLst/>
          </a:prstGeom>
          <a:ln w="0">
            <a:noFill/>
          </a:ln>
        </p:spPr>
      </p:pic>
      <p:sp>
        <p:nvSpPr>
          <p:cNvPr id="444" name="Up Arrow Callout 4"/>
          <p:cNvSpPr/>
          <p:nvPr/>
        </p:nvSpPr>
        <p:spPr>
          <a:xfrm>
            <a:off x="1126080" y="4362120"/>
            <a:ext cx="6672960" cy="1082880"/>
          </a:xfrm>
          <a:prstGeom prst="upArrowCallout">
            <a:avLst>
              <a:gd name="adj1" fmla="val 23567"/>
              <a:gd name="adj2" fmla="val 23593"/>
              <a:gd name="adj3" fmla="val 25000"/>
              <a:gd name="adj4" fmla="val 700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ould you expect such a feature to increase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olume at a search engin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357800" y="5286240"/>
            <a:ext cx="3214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ppiness: elusive to meas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monest approach is given by th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relev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of search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measure it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3 elemen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document coll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suite of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inary assessment of eit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each query-doc pai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valuating an IR syst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Standard benchmark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REC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tional Institute of Standards and Testing (NIST) has run large IR testbed for many yea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ther doc colle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rked by human experts, for each query and for each do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539640" y="5734080"/>
            <a:ext cx="82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On the Web everything is more complicated since we cannot mark the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entire corpu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459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2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Oval 4"/>
          <p:cNvSpPr/>
          <p:nvPr/>
        </p:nvSpPr>
        <p:spPr>
          <a:xfrm>
            <a:off x="2482920" y="272088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Oval 5"/>
          <p:cNvSpPr/>
          <p:nvPr/>
        </p:nvSpPr>
        <p:spPr>
          <a:xfrm rot="19926600">
            <a:off x="1720440" y="363528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2483280" y="5235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5911920" y="3178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1187280" y="2637000"/>
            <a:ext cx="685800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1362960" y="25686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ne 10"/>
          <p:cNvSpPr/>
          <p:nvPr/>
        </p:nvSpPr>
        <p:spPr>
          <a:xfrm>
            <a:off x="464328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Line 11"/>
          <p:cNvSpPr/>
          <p:nvPr/>
        </p:nvSpPr>
        <p:spPr>
          <a:xfrm>
            <a:off x="4859280" y="3284640"/>
            <a:ext cx="14436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Line 12"/>
          <p:cNvSpPr/>
          <p:nvPr/>
        </p:nvSpPr>
        <p:spPr>
          <a:xfrm>
            <a:off x="507672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Line 13"/>
          <p:cNvSpPr/>
          <p:nvPr/>
        </p:nvSpPr>
        <p:spPr>
          <a:xfrm>
            <a:off x="5292720" y="321300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Line 14"/>
          <p:cNvSpPr/>
          <p:nvPr/>
        </p:nvSpPr>
        <p:spPr>
          <a:xfrm>
            <a:off x="5508720" y="3213000"/>
            <a:ext cx="142920" cy="1152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Line 15"/>
          <p:cNvSpPr/>
          <p:nvPr/>
        </p:nvSpPr>
        <p:spPr>
          <a:xfrm>
            <a:off x="5724360" y="3284640"/>
            <a:ext cx="71640" cy="865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Line 16"/>
          <p:cNvSpPr/>
          <p:nvPr/>
        </p:nvSpPr>
        <p:spPr>
          <a:xfrm>
            <a:off x="4356000" y="3429000"/>
            <a:ext cx="144720" cy="10796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Line 17"/>
          <p:cNvSpPr/>
          <p:nvPr/>
        </p:nvSpPr>
        <p:spPr>
          <a:xfrm>
            <a:off x="4067280" y="3500280"/>
            <a:ext cx="144360" cy="1008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Line 18"/>
          <p:cNvSpPr/>
          <p:nvPr/>
        </p:nvSpPr>
        <p:spPr>
          <a:xfrm>
            <a:off x="3780000" y="364500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ne 19"/>
          <p:cNvSpPr/>
          <p:nvPr/>
        </p:nvSpPr>
        <p:spPr>
          <a:xfrm>
            <a:off x="3419640" y="378936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Line 20"/>
          <p:cNvSpPr/>
          <p:nvPr/>
        </p:nvSpPr>
        <p:spPr>
          <a:xfrm>
            <a:off x="3635280" y="3716280"/>
            <a:ext cx="0" cy="649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Line 21"/>
          <p:cNvSpPr/>
          <p:nvPr/>
        </p:nvSpPr>
        <p:spPr>
          <a:xfrm>
            <a:off x="3132000" y="393372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22"/>
          <p:cNvSpPr/>
          <p:nvPr/>
        </p:nvSpPr>
        <p:spPr>
          <a:xfrm>
            <a:off x="324000" y="19162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get high recall (but low precision) by retrieving all docs for all queries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is a non-decreasing function of the number of docs retrie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usually decreas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measures Precision at various levels of 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it is an AVERAGE over many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94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95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ounded Rectangle 5"/>
          <p:cNvSpPr/>
          <p:nvPr/>
        </p:nvSpPr>
        <p:spPr>
          <a:xfrm>
            <a:off x="5003640" y="5805360"/>
            <a:ext cx="360072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blem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05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06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is if you need to optimize a single measure that balances precision and recall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ecommendation syst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have a list of restaurant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atings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ich restaurant(s) should I recommend to Dav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311040" y="3503520"/>
          <a:ext cx="8353440" cy="155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3503520"/>
                    <a:ext cx="835344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ommend the most popular restaura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 # positive votes minus # negative vo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Dave does not like Spaghetti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26" name="Object 2"/>
          <p:cNvGraphicFramePr/>
          <p:nvPr/>
        </p:nvGraphicFramePr>
        <p:xfrm>
          <a:off x="395280" y="3357720"/>
          <a:ext cx="8283600" cy="157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57720"/>
                    <a:ext cx="82836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AutoShape 5"/>
          <p:cNvSpPr/>
          <p:nvPr/>
        </p:nvSpPr>
        <p:spPr>
          <a:xfrm>
            <a:off x="2556000" y="270828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mart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Basic ide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find the person “most similar” to Dave according to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sine-similarity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.e. Estie), and then recommend something this person like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recomme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aits Caf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Da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604800" y="4197240"/>
          <a:ext cx="8358120" cy="16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197240"/>
                    <a:ext cx="835812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228600" y="61722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o you want to rely on </a:t>
            </a:r>
            <a:r>
              <a:rPr b="0" lang="en-US" sz="2000" spc="-1" strike="noStrike">
                <a:solidFill>
                  <a:srgbClr val="a40508"/>
                </a:solidFill>
                <a:latin typeface="Lucida Sans"/>
                <a:ea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40508"/>
                </a:solidFill>
                <a:latin typeface="Lucida Sans"/>
                <a:ea typeface="Arial"/>
              </a:rPr>
              <a:t>person’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opinion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glimpse on XML retrieval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ounded Rectangle 3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XML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tensible Markup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framework for defining markup langu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 fixed collection of markup tag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XML language targeted for applic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XML vs HTM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TML is a markup language for a specific purpose (display in browser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XML is a framework for defining markup languag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TML can be formalized as an XML language (XHTML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XML defines logical structure onl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TML: same intention, but has evolved into a presentation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XML Example (visual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2" name="Picture 3" descr="source-xml-tree"/>
          <p:cNvPicPr/>
          <p:nvPr/>
        </p:nvPicPr>
        <p:blipFill>
          <a:blip r:embed="rId1"/>
          <a:stretch/>
        </p:blipFill>
        <p:spPr>
          <a:xfrm>
            <a:off x="1143000" y="1628640"/>
            <a:ext cx="6629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XML Example (textual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chapter id="cmds"&gt;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chaptitle&gt; FileCab &lt;/chaptitle&gt;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para&gt;This chapter describes the commands that manage the &lt;tm&gt;FileCab&lt;/tm&gt;inet applica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/para&gt;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/chapter&gt;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XML document is an 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ordered, labeled tre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haracter dat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eaf nodes contain the actual data (text strings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element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each labeled with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name (often called the elemen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, and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et of </a:t>
            </a: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each consisting of a name and a value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have child nod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XML: Design Goa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Separate syntax from semantic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provide a common framework for structuring informa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ow 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tailor-made markup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any imaginable application domai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upport 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internationaliz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Unicode) and 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platform indepen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 the 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future of (semi)structure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do some of the work now done by database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Use XML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present semi-structured data (data that are structured, but don’t fit relational model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XML is more flexible than DB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XML is more structured than simple I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You get a massive infrastructure for fre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XML Schema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hema = syntax definition of XML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hema language = formal language for expressing XML schem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 Type Defin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ML Schema (W3C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levance for XML I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ur job is much easier if we have a (one) schem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XML Indexing and Sear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native XML databases have taken a DB approa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ct 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valuate path express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IR type relevance rank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nly a few that focus on relevance rank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vs. Text-centric XM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ata-centric XML: used for messaging between enterprise applica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inly a recasting of relational da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-centric XML: used for annotating cont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ich in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good integration of text retrieval functiona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find m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BN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#s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s with at least thre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pter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s discussing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</a:rPr>
              <a:t>cocoa production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, ranked b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R XML Challen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no document unit in XM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compute tf and idf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exing granular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ed to go to document for retrieving/displaying frag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give me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istentialis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 do you retrieve the Abstract from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ed to identify similar elements in different schem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: employe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R XML Challenges: X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QL for XM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age scenari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uman-readabl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a-oriented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ed documents (e.g., patient record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lies 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ML Schema datatyp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ies Supported by X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attribute/valu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/play/title contains “hamlet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th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 contains “hamlet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/play//title contains “hamlet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plex graph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mployees with two mana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about relevance ranking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6804000" y="4508640"/>
            <a:ext cx="2160720" cy="43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ot perfectly true but.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857160" y="4000680"/>
            <a:ext cx="650088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85880" y="514368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ata structures for XML retrieval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are the primitives we need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nverted index: give me all elements matching text query </a:t>
            </a:r>
            <a:r>
              <a:rPr b="0" i="1" lang="en-US" sz="30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now how to do this – treat each element as a docum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Give me all elements below any instance of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elemen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arent/child relationship is not enough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contain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2514600" y="1828800"/>
            <a:ext cx="5715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c: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2743200" y="2895480"/>
            <a:ext cx="1752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6019920" y="2895480"/>
            <a:ext cx="21333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2530080" y="2575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4004640" y="2575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12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5681160" y="2575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03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738560" y="2575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79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955800" y="274320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3352680" y="4038480"/>
            <a:ext cx="6858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2939040" y="3718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3832560" y="3718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86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750600" y="38862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r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705960" y="4800600"/>
            <a:ext cx="198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erm: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droppe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3733920" y="4952880"/>
            <a:ext cx="152280" cy="228600"/>
          </a:xfrm>
          <a:prstGeom prst="rect">
            <a:avLst/>
          </a:pr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3299400" y="4632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7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1" name="Group 18"/>
          <p:cNvGrpSpPr/>
          <p:nvPr/>
        </p:nvGrpSpPr>
        <p:grpSpPr>
          <a:xfrm>
            <a:off x="3809880" y="5333760"/>
            <a:ext cx="4786920" cy="1391400"/>
            <a:chOff x="3809880" y="5333760"/>
            <a:chExt cx="4786920" cy="1391400"/>
          </a:xfrm>
        </p:grpSpPr>
        <p:sp>
          <p:nvSpPr>
            <p:cNvPr id="582" name="Line 19"/>
            <p:cNvSpPr/>
            <p:nvPr/>
          </p:nvSpPr>
          <p:spPr>
            <a:xfrm flipV="1">
              <a:off x="3809880" y="5333760"/>
              <a:ext cx="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3" name="Text Box 20"/>
            <p:cNvSpPr/>
            <p:nvPr/>
          </p:nvSpPr>
          <p:spPr>
            <a:xfrm>
              <a:off x="4491720" y="6326280"/>
              <a:ext cx="41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Lucida Sans"/>
                </a:rPr>
                <a:t>droppeth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under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se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under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y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4" name="Rectangle 21"/>
          <p:cNvSpPr/>
          <p:nvPr/>
        </p:nvSpPr>
        <p:spPr>
          <a:xfrm>
            <a:off x="6078240" y="4219920"/>
            <a:ext cx="2593080" cy="10087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ntainment can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iewed as merg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ummary of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th containment etc. can essentially be solved by positional inverted index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trieval consists of “merging” posting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the compression tricks are still applic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plications arise from insertion/deletion of elements, text within ele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yond the scope of this cour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2"/>
          <p:cNvSpPr/>
          <p:nvPr/>
        </p:nvSpPr>
        <p:spPr>
          <a:xfrm>
            <a:off x="214200" y="3357720"/>
            <a:ext cx="892980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71680" y="3143160"/>
            <a:ext cx="77864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292480" y="3413160"/>
          <a:ext cx="399420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3413160"/>
                    <a:ext cx="3994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4"/>
          <p:cNvSpPr/>
          <p:nvPr/>
        </p:nvSpPr>
        <p:spPr>
          <a:xfrm>
            <a:off x="6948720" y="414036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Lucida Sans"/>
              </a:rPr>
              <a:t>m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/</a:t>
            </a:r>
            <a:r>
              <a:rPr b="0" i="1" lang="en-US" sz="2800" spc="-1" strike="noStrike">
                <a:solidFill>
                  <a:srgbClr val="c00000"/>
                </a:solidFill>
                <a:latin typeface="Lucida Sans"/>
              </a:rPr>
              <a:t>n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4276440" y="4214880"/>
            <a:ext cx="15228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475080" y="3957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 </a:t>
            </a:r>
            <a:r>
              <a:rPr b="0" i="1" lang="en-US" sz="20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5.45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286680" y="5214960"/>
            <a:ext cx="285732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We do have a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xplicit formul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the optimal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3" descr="C:\Users\ferragin\Desktop\Picture3.png"/>
          <p:cNvPicPr/>
          <p:nvPr/>
        </p:nvPicPr>
        <p:blipFill>
          <a:blip r:embed="rId4"/>
          <a:stretch/>
        </p:blipFill>
        <p:spPr>
          <a:xfrm>
            <a:off x="249120" y="4286160"/>
            <a:ext cx="1893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1-10-12T16:12:56Z</dcterms:modified>
  <cp:revision>1160</cp:revision>
  <dc:subject/>
  <dc:title>Web Algorithmics</dc:title>
</cp:coreProperties>
</file>